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20C-9544-4969-81FD-49F9CECC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94B-686B-4A84-8B80-26A9945C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808-9438-449C-A7C3-C6007B41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2B5-57EE-4282-B18F-1A72AF82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4C8-E476-4DEA-BAE0-6EB061F9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BF6-F90F-4F79-8BBC-9FD1651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206-130F-4DAC-A28F-1C914BA1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A8B-B3E5-4C73-90F3-9C40707A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8DB-BD28-454D-8C3E-F2A49206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43B-BBC3-49CA-86FF-DEB22FA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9B8-5A0D-4135-BD19-A4495C25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B84-DE00-430C-8BA7-21F806E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9FFE-72CC-411E-BC5B-47A9FBFF9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小班语言：《鼠宝宝找朋友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活动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能理解故事情节，巩固对鸭子、青蛙、小猫等动物走路特征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愿意大胆回答问题，感受有朋友的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05520" y="6324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3:47:42Z</dcterms:created>
  <dc:creator>裴晓建</dc:creator>
  <dc:description/>
  <dc:language>en-US</dc:language>
  <cp:lastModifiedBy>微软用户</cp:lastModifiedBy>
  <dcterms:modified xsi:type="dcterms:W3CDTF">2011-04-27T13:33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